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63F8-8E54-43F4-B6E6-347E647B4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2ADA-21FE-4D6E-A9EC-23B4F78007E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878-2378-43BB-8CE0-C8E43039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8DE-0CB2-460D-846D-BF0BEE3C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AB8-7D16-426D-AE4C-0A5C987E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409-C827-40A7-86A8-2DCFF0CC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8A0A-1C09-44A1-A7A7-D44AB330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F36-6795-44F1-88B7-779F27EB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93B3-399B-4317-93DC-F67EFA0F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9F37-4793-4267-8119-DE2224FA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394C-79EC-4537-B1F9-B9C0DC5C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BCC5-2398-48A0-A595-B1964EDA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F8DD-140A-4178-ADA8-19E769B6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FFD-1BFA-4D32-9BF5-8A8F14B6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2FEE-3A0C-48B3-8D84-6CCFAEE0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7977-A6A3-441A-BC3B-1BCD1B2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B292-B603-4A4D-A624-3BF713E2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61B5-3663-46DE-937B-561494E8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FE22-21E2-4EB9-B6E5-DE69E906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9D82F-4E6A-4F55-9F98-F1E9632DC9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F28B6-E80E-41B3-9BE4-7398A91E75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E049C-C099-4334-A8C3-DEE9C8DE70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95040-D04A-4D75-A0B5-0884635345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8D92E3-9D4F-4505-BB30-0503A119C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2CC-B079-49CB-809C-3F2A36C0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F1E6D-A212-427B-8F2F-C3D0B7EC1D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3DD9C-4ADD-4C39-8FB9-D76E1DCCBB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E2433-BEF9-4594-B015-F9FE05C9F4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D25F8-9A78-47BC-A82D-5D48B2610A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1F2B9-966F-40E1-8D0C-2046E48ACA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685031-3BDC-4D08-9F93-8EA16CF63F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AA8D7-F91E-447B-8832-0537AF115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004-3195-48DE-85D2-4F5AA307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B6C-63B3-4EB5-8C22-5686CDAD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8E2-05B7-4ADC-A4D0-B60374D0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FDB-A060-43EA-94B8-80290E1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F9F-95A6-43D0-9CCF-06AE3ABB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924-637C-454C-A318-63E49A2D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1984-A370-48A5-965E-A6526D388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5BFC-6DAE-4C6F-86AB-56F55A76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6657-DEEF-4FC3-B983-8E774D0344A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sr.wikipedia.org/wiki/&#1058;&#1077;&#1083;&#1086;" TargetMode="External"/><Relationship Id="rId4" Type="http://schemas.openxmlformats.org/officeDocument/2006/relationships/hyperlink" Target="https://sr.wikipedia.org/wiki/&#1047;&#1076;&#1088;&#1072;&#1074;&#1113;&#1077;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ОПШТИ ПРИНЦИПИ ФИЗИКАЛНЕ ТЕРАПИЈЕ ПОСТТРАУМАТСКИХ СТАЊ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 Бо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 Деформац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 Патолошка покретљивос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 Крепитац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 Губитак функциј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C0A4-8C60-4FEF-A390-FA11DA17F7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и знаци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есигурни знаци прелом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ност на палпацију и/или при покр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мена боје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њење или потпуни испад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игурни знаци прелом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ормитет уздужне осе 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толошк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репитације улома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AFA9-3BEA-4FB8-A7D2-A0FB597115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: механизам и време настанка прело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- сигурни и несигурни зна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Р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цинтиграфија ко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09EC-0237-4A02-960B-4AA2F97037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ЗАРАСТАЊЕ ПРЕЛОМ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И СЕ У ТРИ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ФАЗА ИНФЛАМ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ФАЗА РЕПА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ФАЗА РЕМОДЕЛИР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е нису потпуно одвојене, већ се преклап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860B-6917-44E3-9612-81C2B2B59C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440" y="15998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ФАЗА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ЕХАБИЛИТАЦИЈА ПО СКИДАЊУ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C8A7-60A9-4669-9586-21FB21A80E8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ИМОБИЛИЗ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РЕПОЗИ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мануелна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екстензијом (кожна, скелетна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оперативно (крвава репозиција)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МОБИЛИЗАЦИЈА РЕПОНИРАНОГ ПРЕЛО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ГИПСА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ОПЕРАТИВНА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ОСТЕОФИКСАЦИЈА (ОСТЕОСИНТЕЗА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СПОЉАШЊА ФИКСАЦИЈА ФРАГМЕНАТА АПАРАТОМ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АРТРОПЛАСТИК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АРТРОДЕЗ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ОСТЕОТОМИЈ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РЕСЕКЦИЈА КОСТИ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АМПУТАЦИЈ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РАН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BB71-C13B-4C59-8DDD-2BB8A31C46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А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А. За време имобилиз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имулација остеоген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венција комплик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Б. Након скидања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ОП у зглоб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оординациј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брзин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опште и локалне издж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123-73DD-4C79-82B8-14EC028BC89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стимулација остеогенез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144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4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ТИЧКЕ КОНТРАКЦИЈЕ ИМОБИЛИСАНИХ МИШИЋ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са тонусом који је најмање 30% од максималног тонуса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стиже се ублажавање последица инактивите, превниција компликација и стимулација остеогенез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Ч ОСЛОНАЦ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до 10% ТТ- симулација пиезоелектричним ефекто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акција мишића и мобилизација суседних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 (90-10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z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 10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z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реко гипсане имобилиз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 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 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7A99-A7C5-4D0D-B250-871ACC2974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ЕХАБИЛИТАЦИЈА ПО СКИДАЊУ ИМОБИЛИЗ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имобилизациона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онтракту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зглоб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активитет доводи д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за трофичких и дегенеративних промена ЛМС услед изостанка еферентних импул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ремећаја координације покрета одн дискинезије услед инхибиције у ЦНС-у, у условима изостанка аферетних проприоцептивних импул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3020-8B04-429F-9443-24CB5A58B9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термо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1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омасажа (1-3 мин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пле диферетне зоне- парафин, ИР, КТ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елује на циркулацију:вазодилатација (активна хиперемија), долази до убрзања цирукулације (бржи прилив артеријске, брже отицање венске и лимф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елује на везивно ткиво- повећава истегљивост колагена (зглобова, тетива, ожиљно везивно ткив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због ових разлога доводи до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иканости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088A-04B1-4589-B30A-F1A6C4E5648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рауматолог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уматологија је грана медицине која се бави лечењем повред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а (траума) је насилно оштећење 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те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 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здрављ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изазвано искључиво дејством спољашњих факт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6692-177B-41F9-9088-E13B1FC423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-743040">
              <a:buClr>
                <a:srgbClr val="66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ЛЕКТРО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Д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дуков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поненцијалн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2EDD-2011-4502-B761-9D189FAE40C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аг.поље ниске фреквенције:смањује оток, инфламацију, бол и стимулише остеогенезу, код конт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р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тура, побољшава микроциркулацију (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10 mT, 50Hz, 30 min)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аг.поље високе фреквен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Биостимулативни ласер, аналгетско и антиинфламаторног дејства. Примењује се на акупунктурне тачке ил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скенирајући начи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W, f 1000Hz, 3 min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 тачки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Одаберу се 4-5 тачака и зраче се по 3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79A1-883E-48A8-A09A-786FE78209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ТРАЗВУК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– 0,8 W/cm², 5 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мпулсни и континуирани Уз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Дејство: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механичк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микромасажа ткива на ћелијском нивоу), мења се пропу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тљивост мембране (повећавају се дифузиони процеси и метаболизам) и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термичко дејство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настаје услед апсорпције Уз Е (значајно за савлађивање контрактура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 ЗРАЦИ-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започиње се локално биодозом, и сваког дана се повећа за једну биодозу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A87F-9426-4C9E-BE0D-2DE1EFB487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АКТИВНЕ ВЕЖБ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ВЕЖБЕ ИСТЕЗАЊА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Статичко истезањ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Балистичко истезањ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ПНФ истезањ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 Пасивне вежбе се не препоручују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ХИДРОТЕРАПИЈ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тушеви, подводне масаже, вртложне купке, бисерне када, угљено киселе и сулфоводоничне купк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Саветује се у комбинацији са КТХ- хидрокинезитерапиј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E018-E055-44C7-A932-DE13890DE6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АСАЖ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Није дозвољена у пределу калус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римењује се проксимално и дистално ради побољшања периферне циркулациј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ВАКУС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хипобарична терапија. На интактну кожу, навлаке према локализацији (капа, рука, чизма), подпритисак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0,3-0,4 bara, 6-20 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РАДНА ТЕРАП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доводи до повећања МОП, побољшања коорднинације, повећења локалне и опште издржљивост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4EDA-D457-4CC9-8E34-78D990446AE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ПОВРЕДЕ МЕКИХ ТКИВ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КИХ ТК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НДОГ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синдроми пренапрез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ГЗОГ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настају деловање спољашње сил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 аген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 у звисности о оштећења интегритета кож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творе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затвор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1CE7-729A-4FEA-B408-788CE8DE25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ОДЕЛА ПРЕМА ТОКУ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Tahoma"/>
              </a:rPr>
              <a:t>АКУТНЕ 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зазване изненадним дејством силе (дисторзије, дистензије, луксације…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Tahoma"/>
              </a:rPr>
              <a:t>ХРОНИЧНЕ –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азване континуираним стресом током дугог временског периода (скакачко колено, тениски лакат…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D932-E20D-48AC-A219-289E91FA3F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Tahoma"/>
              </a:rPr>
              <a:t>ЕНДОГЕ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анатомска и физиолошка промена структура, због премора или пренапрез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Tahoma"/>
              </a:rPr>
              <a:t>ЕГЗОГЕ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деловањем спољних сила или агенаса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AA7-1349-44D0-9ED0-07FBCE87F2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УНУТРАШЊИ ФАКТОР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р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тходне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омалије у грађ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чка способ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ни дизбала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сихолошки факт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стемске боле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D4AF-69DF-482F-B06E-A4EA221315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комоторни систем чине: кости, зглобови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игаменти, мишићи и тетиве, живци и крвни судови, поткожно ткиво и кож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е могу настати дејством директне и индиректне механичке силе која прелаз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раницу еластичне деформ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имо их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де к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де меких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F801-187F-4D8D-A605-576CAEE52C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КИХ ТК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узије (нагњечења)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мишића, тетива, зглобов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и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ензије (истегнућа) мишића и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орзије (уганућ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уксације (ишчашењ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вреде мишићних фас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ишића и тети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B2CF-380A-43C6-8F21-F76FB8DC13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онтузије (нагњечења)</a:t>
            </a: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ишић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под дејством тупе динамичке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манифесту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вни подли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граничена функ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оштећења и некрозе повређеног ткива и крвних суд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A37-E2AB-4DE7-9385-0ADC65A73A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онтузије (нагњечења)</a:t>
            </a: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ишић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2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ректно дејство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њење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окретљивост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 суседним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глоб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термускуларни и интрамускуларн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хемат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трамускуларни хематом је проблем: ожиљак,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тракција, осифик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некад је потребна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опер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946A-8CD2-4E54-804A-F8206F7916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ЈАГНОСТИКА ПОВРЕДА МИ</a:t>
            </a: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Ш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И</a:t>
            </a: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Ћ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 преглед: инспекција, палпација, перкус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онограф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нзимска дијагностика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PK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казује високе вредности 2-3 дана од повреде, након тога нагло пада и од 5-6 дана од повреде остаје лако повише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16A3-EBD1-4225-B175-4CC1AF5842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АКУТНА ФАЗА НАКОН ПОВРЕДЕ МИШИЋ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ТХ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лагане активне 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е након 36 - 48 h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додатна хиперемија, бржа ресорпција хематома и редукција стварања 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љног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Е МАСАЖА !!!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 крварење и даље 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ње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х влак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M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најделотворније због по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ња оксигенације 200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105D-BFD0-4CE6-8EC4-E91D6FDBC6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ЕХАБИЛИЗ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чиње процес регенерације повр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ђ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них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их влакана и тада треб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именити физикалне процедуре у циљу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стимулације регенерациј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спре</a:t>
            </a:r>
            <a:r>
              <a:rPr b="1" lang="sr-C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ч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авања стварања о</a:t>
            </a:r>
            <a:r>
              <a:rPr b="1" lang="sr-C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ж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иљног ткив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 IFS, мале дозе UZ (микромас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 на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лијском нивоу), IMP, ласер, термо, УВ, и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р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ТХ - постепен ниво по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ња оптер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ња; након 2 недеље је интензивн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7DD6-998E-43AC-8D6E-9F7ACCDF81E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Дистензије (истегнућа) мишића и лигамена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форсирним контракцијама насупрот отпору, снажном контракцијом велике амплитуде или прекомерним истезањем. 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истегнућа без видљивог прекида мишићног влакна и крварењ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стегнућа са микроруптурама, долази до делимичног прекида појединих мишићних влакана, уз оштећење кс и крварења (настанак хематом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28EE-9DE2-4D52-B0A8-27BE8EC9A7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АТОМЕХАНИЗАМ  ПОВРЕДЕ МИ</a:t>
            </a: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Ш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И</a:t>
            </a: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Ћ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58c"/>
                </a:solidFill>
                <a:latin typeface="Times New Roman YU"/>
                <a:ea typeface="Times New Roman"/>
              </a:rPr>
              <a:t>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ка контракција против силе коју је т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 савладати (дизање тере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силно – пасивно померање зглоба у тренутку контракције (скок на ног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дарац на контраховани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зненадна контракција антагониста у фази контракције агонис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AF94-0C39-45F0-AA6E-CFA4A4691D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Дистензије (истегнућа) мишића и лигамена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сивно или услед контр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ви степ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минимално крварење, минималне структурне проме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руги степ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арцијални расцеп, обилније крварење, бол, инфламација, испад 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рећи степ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отпуни расцеп, велико крварење, деформ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5437-7AB3-47D8-88FA-35B18FCA680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СТОРЗИЈА (УГАНУЋЕ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екомерни покрет у зглоб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 д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 и до 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ња тетивног апар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ј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 - талокрурални згло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609C-016D-47F4-AD7D-0521036A01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Локомоторни систе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комоторни систем човека представља човеков зглобно-коштано-мишићни систем који му омогућује промену положаја у простору и све остале вољне механичке покрет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ај систем садржи пасивни и активни де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сивни д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 овог система чине кости и зглобови, а активни скелетни мишић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AFF7-C918-42E3-BD80-458E43C6C2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Дисторзије (уганућа) зглоб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3520" y="14479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овреда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капсуле, лигамената, синовије и тетивних припоја. Дејство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груб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механичк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сил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вод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еконтролисаног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окрета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зглоб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кој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релаз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физиолошк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границ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еластичности</a:t>
            </a: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 </a:t>
            </a:r>
            <a:r>
              <a:rPr b="0" lang="sr-RS" sz="2400" spc="-1" strike="noStrike">
                <a:solidFill>
                  <a:srgbClr val="ff0000"/>
                </a:solidFill>
                <a:latin typeface="Tahoma"/>
                <a:ea typeface="Arial"/>
              </a:rPr>
              <a:t>ст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епен- елонг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Истезање лиг.апарата капсуле и синовије, без прекида анатомског интегитета лигамена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I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степен- лацер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лази до делимичног прекида континуитета лиг. Ситних кс, без израженог оштећења функције. Хематом настаје брзо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II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степен - руптур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ајтежи степен, прекид континуита лиг., каспуле и неких вас.елемената. Потпуни губитак функције. Клинички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ефиз.положај зглоба, оток, хематом, бол, без активних покр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ВИ СТЕПЕН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СТОРЗ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15BB-08E1-44BE-8EC4-2DAF34484A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762120" y="1676520"/>
            <a:ext cx="4114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лимично истезање ligg. и зглобне ча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-45720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 је отечен (после неколико дана), болан и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стабил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-45720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 RICE; физикална терапија (UZ, EF, IFS, IMP, ласер, хидроКТХ, К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ДРУГИ СТЕПЕН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СТОРЗ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F35C-BB51-43CD-B7F7-F7E753F2DE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762120" y="1676520"/>
            <a:ext cx="45720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прснуће меких структура зглоба (лигамената или чаур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 је јако болан, делимично натечен, са знацима излива и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лагано нестабил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 RICE; физикална терапија (UZ, EF, IFS, IMP, ласер, хидроКТХ, К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РЕЋИ СТЕПЕН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СТОРЗ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8DC8-8CFA-4D95-9171-3900CBE623D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838080" y="182880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29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кидане зглобне 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з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, а истовремено је и капсула зглоба поцепа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 оперативно л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њ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стоп.рехаб.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врати снагу, обим покрета и функц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Луксације (ишчашења) зглоб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дислокације зглобних површина под дејством прекомерне сил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 дефомација зглоба, бол и ограничена покрет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имичне луксације или сублуксације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лимични контакт зглобних површи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тпуна луксација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ислокација зглобних површина, уз потпуни губитак међусобног контак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7E64-B2E5-4BEA-94E2-EDED09E36E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асна деформација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де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омена боје коже изнад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д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творено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ишчашење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рварење из отворене ра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лпацијом се пипају зглобни крајеви ко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ктивни покрети у зглобу нису могући, а пасивни су болни и ограниче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д покушаја покретања, јавља се еластични отпор у зглобу због контракције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5BBF-B325-42C8-A94F-82A2B1BE243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Репози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о пре (како не би д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ло до скр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ња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 кроз њихову контракцију услед бо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мобилизација - мора бити довољно дуга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(6-8 недељ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 току имобилизац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имена физикалних агенаса: IMP, IFS и дозиране стат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е контр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кон скидања имобилизац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ап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ње реституција кроз физ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у активност (баз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и тренинг), хидроКТХ, ES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SP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блик) и остале физикалне агенс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A9AB-3250-447D-B932-31431393B7D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ректним или индиректиним дејством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арцијална руп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јак бол, престанак сваке активности, потпуна функција мишића ил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ти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Комплетна руп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бол и тренутан губитак функције мишића или тетиве, локална импресија на месту прекида 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3D6C-D503-4A09-9BD0-8D4C9532C4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ОВРЕДЕ ТЕТИВ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Брадитрофно ткиво, храни се дифузиј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ј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ш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е  су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руптур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тетива (Ахилове, екстензора прстију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к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еханизам настан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716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дејство прекомерне сил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716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реоптерећ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04C4-7368-4462-A34B-5B67FBFE1B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СКИ ПОСТУПЦИ КОД РУПТУРЕ ТЕТИ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Делимичн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 имобилизација 8-12нед.+ физикална Т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Потпун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 х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рур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ка интервенција у првих 24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фази имобилизац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кон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ерације: изометријске контрак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MP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F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кон имобилзациј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 КТХ,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, IFS, DDS, UZ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ласер, криомасажа, мануел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5382-DE54-4A40-AB3C-B4EB778EE0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ПРЕЛО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СКИ ПОСТУПЦИ КОД РУПТУРЕ ТЕТИ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1199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У трећој фази</a:t>
            </a: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: КТХ, хидроКТХ, истезање (</a:t>
            </a:r>
            <a:r>
              <a:rPr b="0" lang="sr-RS" sz="2300" spc="-1" strike="noStrike">
                <a:solidFill>
                  <a:srgbClr val="ff0000"/>
                </a:solidFill>
                <a:latin typeface="Tahoma"/>
                <a:ea typeface="Times New Roman"/>
              </a:rPr>
              <a:t>активно, НЕ ПАСИВНО!</a:t>
            </a: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); прогресивне вежбе са отпором за повређени сегмент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1199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Покрет повређеног (оболелог) дела: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Статичке (изометријске) контракције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Концентричке контракције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Ексцентричке контракције 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Најбољи ефекат комбинација оптерећења и истезања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Најзначајније - правилно дозирано и прилагођено оптерећење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AAEB-700B-41E9-8A14-4C8D33F06C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А КОД КОМПЛЕТНИХ РУПТУР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29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тпуни расцеп, велико крварење, деформ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29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еративна терапија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егзактна реадаптација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29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јбитнији елемент у постоперативном периоду је програм рехабилитације и примена физикалне тера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095C-7444-4EE0-8E55-DD85F7BBAFF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А КОД КОМПЛЕТНИХ РУПТУР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кон мировања запо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ње програм рехабилитације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редукција едем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, лимф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дрен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рим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електротерапиј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(Е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-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P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облик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базриво зап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ети програм терапије покретом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хидрокинези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ренинг снаге и координ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9639-3F71-4F95-8BDF-97EDB04FAF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МПЛИКАЦИЈЕ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ПОВРЕДА МИШИЋ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Цистични хематоми или (псеудо)цис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сифицирајући миоз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жиљак спречава регенерацију и ствара адхез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Губитак контрактилне способности 10-20% услед интер и интрамускуларних адхезија, промењене дужине влакана и повреда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3FA6-A27B-4B7E-87BA-A17F80FFD53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овреде мишићних фас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 изоловане или удружене са мишићним лезиј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дејстом директне силе (ударац) у контрахован миши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изоловане повреде фасције може доћи до пролапса 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E0A-621B-4CED-BE18-B54F434FCD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: механизам и време настанка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C81C-0D31-4EE1-8248-7BD04EBBD0F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АТОГЕНЕ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штећењ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запаљенске ре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поравк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ремоделир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33B-BEC3-4BE8-B406-D06E401BE3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није промене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рецизније мето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ћност коришћења скупих дијагностичких мето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81DA-870B-4E6B-BCD8-1FECF02055E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Дијагностика мекоткивних повре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Инспекција и палпа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Радиограф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коштанозглобног систе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меких ткива, тетива, лигамената и површних зглобних структу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Р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ре свега за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нутрашње зглобне структур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али и структуру кости и повреде меких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за компликоване фрак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цинтиграф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костију за акутну коштану трауму - стрес фрактур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AFE0-438B-4992-B7C2-8FEA526ED6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Дијагностика мекоткивних повре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етоде снимања се надопуњују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 не искључуј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у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и и тетиве: УЗ и 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ови : РТГ, УЗ, МР, К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сти : РТГ, КТ, 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чма : РТГ, КТ, 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а : РТГ, КТ, 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ек пре дијагностичког прегледа напоменути радиологу да је у питању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вреда и објаснити механизам трауме да би се радили специјални снимци и специфичне МР секвен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4F7B-9D99-48A1-A790-8889C989C7D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елом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кости се дефинише као потпуни или непотпуни прекид континуитета коштаног ткива, проузрокован силом која превазилази границу његове природне еластич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може бити потпун, с прекидом континуитета периоста или непотпун, кад је периост очу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 обзиром на стање коже изнад места прело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отворени преломи (кожа оштећена,склоност ка инфекцији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затворени преломи (кожа интактн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671-25AD-41DF-969A-8E23EA6F92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Основни циљ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спречити настанак грубог ожиљног ткива које може довести до знатнијег оштећења 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првој фази - спречит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рварењ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 развој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дем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RICE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24 - 48 h: смањит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побољшати периферну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циркулациј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поспешити ресорпцију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екстравазат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успоставити физиолошк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кретљивос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 мишићн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наг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9BE-2323-4F54-9FA3-3532675887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БАЗИЧНИ ПРИНЦИПИ ЛЕЧЕЊА МЕКОТКИВНИХ ПОВРЕД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АКУТНА ФАЗ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сновни ЦИЉ - смањење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бол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, борба против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едем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хематом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и спречавање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аљег оштећењ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повређених структур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оже се рећи да је главни смисао непосредне фазе лечења након повреде (48-72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спречити настанак хематома!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86AB-40AF-4311-A848-E8DE04E9D9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запаљенске реак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звија се на месту оштећења меког ткива неколико часова после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аљење настаје под дејством хемијских материја из изумрлих ћелија. Вазодилатација је праћена екстравазацијом и стварањем тзв инфламаторног ексудата богатог беланчевинама и ћелијама запаљ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бриноген се под дејством ткивног тромбопластина претвара у фибри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је 3-5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9BC9-D460-419B-88B1-2A4F7FD1012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аза запаљенске реак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е карактерист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црвенило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rub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повишена лок.температур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col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бол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dol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. локални оток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tum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5. поремећај функције орган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functio laes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84E8-D9C0-4947-AE1D-AD4DDB2692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аза опоравка ткива</a:t>
            </a: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 (репарације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очиње још током прве фазе, након 3 дана од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ликује се пролиферацијом капиларне мреже, ствара се гранулационо ткив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вара се ожиљно ткиво од фиброцита (колагена влакн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ормирање ожиљка се завршава након 3 недеље (има тенденцију сталног скраћив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03F7-0F15-4F92-A442-E812C3861F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ремоделирањ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трајати до годину дана и виш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лагена влакна добијају у чврстини и усмерењ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AA24-7816-4EA5-919A-346DE87327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ОПШТИ ПРИНЦИПИ ФИЗИКАЛНОГ ТРЕТМАНА И РЕХАБИЛИТАЦИЈЕ БОЛЕСНИКА СА ПОВРЕДОМ МЕКИХ ТКИВ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5736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 – миров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 - 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pression - компрес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ation - елева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B06D-F1F3-4B84-9907-C7F89C3575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првој фаз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узбијање локаног запаљ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бо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венција ширења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крварења и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меном физикалне терапије се смањује секундарна фиброза и обезбеђује квалитетно зарастање повређеног тки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8F5D-F16E-42F7-B4D7-D69C30510D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 примењене физикалне тх у другој фаз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брзање репараторних процеса одн ставарање оптималних услова за опоравак повређеног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 треће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ксимални функционални опрорав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атак флексибилно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не снаге и издржљивости, брзине и координ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ардиореспираторне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2523-956C-47D4-8AD7-227FC92B502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Отворени прело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узрок отвореног прелома је пробијање коже оштрим уломком кости или деловања јаких сила споља која директно оштећују кожу, поткожно ткиво, мишиће и саму к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саобраћани т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матизам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BCD3-2B8A-4AE6-9F23-8B6416C6CA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оком имобилизациј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ТХ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контракције за повређени сегмент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за слободне сегмент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ука ходу уз помоћ помаг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37BA-87CA-4504-9259-F5032EED657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едикаментозна терапија у запаљенској фаз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САИЛ,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hymoral for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nedol ung, Hepathrombin g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Р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пликација пешкира претходно потопљеног у хладну (може и слана вода) воду на сегмент тела 30-6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пауза 3-5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еса са ледом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мерзиј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риомасаж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Лако испарљиве течн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Cryo cuff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етод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61F6-2EF1-439E-8B19-89111DD74AD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имена компресивног заво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користи се еластични завој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редукције отока и крвар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љан, али не превелик притисак (посматра се дистални део повређеног сегмен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Елевација екстремитет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дистални сегменти екстремитета изнад хоризонталне равн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смањења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овреде ДЕ елевација изнад нивоа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овреде ГЕ изнад нивоа срц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E1D9-804D-4427-838C-4A34BFEE40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ЛАКШИХ ПОВРЕДА – изометријске вежбе за флексоре,екстензоре 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дукторе. Одржав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у контрактилност мишића, спречава настанка атрофије. Побољшава се циркул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ТЕЖИХ ПОВРЕДА – само изометријск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ДИСАЊА-боља оксигенација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ЗА СЛОБОДНЕ СЕГМЕНТЕ ЕКСТРЕМИТЕТА И ТРУПА- повећ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а се снага, брзина, ел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ичност и издрж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78C3-01F8-4A23-BF60-09D7E417E6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даци примењене физикалне терап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бољшање снабдевања крвљ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клањање запаљенског ектраваз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обољшање фибробластичне репа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15CD-4B0B-4062-918A-355BB664BB6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МОТЕРАПИЈА 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вазодилатације (активне хиперем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лед хиперемије убзава се циркулација и бржа је ресорпција екстраваз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ва се истегљивост колагена везиног ткива (тиме се побљшава ефекат К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гетск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B2B5-06D8-4365-A8F2-7E9BAF259F0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ЕЛЕКТ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дуков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(сп облик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E9C0-937C-4231-B131-CC8B848152D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ЛТРАЗВУЧНА МАСАЖ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икромасажа на ћелијском ниво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термичко дејство – п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ћава се ексензибилитет колагена и побољшан је ефекат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ЛТРАЉУБИЧАСТИ ЗРАЦ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аког дана по једна б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за виш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АСЕР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АГНЕТ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ИМП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ВАКУСАК ТЕРАПИЈА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обарична тх (капа, рука, чизм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F90B-B19F-406C-84E3-8FF404EE23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ИМЕНА  ВАСКУЛАТ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2-3 дана се започеиње ктх програм по престанку бол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НАМИЧКЕ ВЕЖБЕ- када болесник почне да толерише изометријс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о-потпомогнуте, активне и активне са отпором према функционалном статус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јачања стабилизације труп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чање слободних сегмената и опште конди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37F9-43B1-47A9-B8E7-CED0CEDF6C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грам оспособљавања обухва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вежбе за обим покрета у зглоб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вежбе јачања мишића стабилизатора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тренинг проприоцепције или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вратак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90E1-9477-4F9A-95A2-D6BD3ED321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елом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УМАТС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4000" indent="-5040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ТОЛОШ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4000" indent="-5040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РЕС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4000" indent="-504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ОБЛИКУ преломне лин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4000" indent="-504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СИ;   б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ИРАЛНИ;  ц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ДУЖНИ;   д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ПРЕЧ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A0F1-CEC7-4AFD-A5C5-DE768C1024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топли обло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наизменичне куп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вртложне куп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двод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подвод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24E6-EA6E-414B-A79F-CF7C58B5F9D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моделир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физикалних агенаса најчешће се корист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онтинуирани 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ED59-E8DE-40CA-BDDC-3AE48EE4FC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моделир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бољшање локалне микроциркул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већање еластичности колагених влакана у повређеним тки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умањити инфламаторни одговор меких ткива на оптерећ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но се ставља акценат на ктх и хидрокинезитерап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ценат је на функционалном опорав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0244-34DE-4E99-BD3A-24A30C9E47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сер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кционална процена кроз специфичне тесто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E54F-DF6F-4343-BE22-CD4A77A90E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РСТЕ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фисура или напрснућ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убпериост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коминутив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мултифрагментар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вишестру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интраартикулар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луксацио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прелом “зелене гранчице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авулзио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епифизиоло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C93F-FDB1-4DC8-BC08-E373DD6A99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8:57:07Z</dcterms:modified>
  <cp:revision>926</cp:revision>
  <dc:subject/>
  <dc:title>Rehabilitacija traumatoloških bolesnika</dc:title>
</cp:coreProperties>
</file>